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0818-C2C3-4042-A5A6-FD9242F668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519-321E-416F-96CE-9EB94E042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6A4F-4D3C-4920-A1A0-AA31CE9D2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CDF8-482E-468E-A761-DD698E12E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2CD5-B542-45CE-A206-E04404641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056-2710-4D54-8EDA-97B568D27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4B1D-608C-4218-AA3E-4FB63F7B1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4D0C-02C5-42E8-95F6-7297F40EB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06B7-97A6-4B1C-BD85-486A49521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6664-6E70-4098-83A1-B6FA3B4D6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613B-A3CC-4D4C-95B2-C16881CAB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C49-E7E4-4294-BBD0-9F4B478B8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5C15-E065-4B53-B6D2-3075B411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85AD-2BC5-4198-8650-E93CDED9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FEDD-3A6A-4E3D-9AB4-B6CCAB60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2F42-6C6B-4C8F-B6C3-13FC1F08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FEC3-63A9-40D0-AF09-5D2CA45B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6309-767D-4B10-83E6-6EC24FB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B1F1-C1A7-44A8-B0F9-BA0FF720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1D6F-79AA-426C-90C7-6662E190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F604-08DA-4D53-9973-5C2FD93C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94FF-19A7-47D8-ACDC-E320D4D2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6B37-77C9-4139-B2D9-38B2DB62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DB04-2D50-4426-99D3-566B0F52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29E1-9EC7-4D04-AADB-C79EC5B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138C-5417-46AD-B512-06A14FB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445F-C505-451F-B960-B1326929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25A9-20FE-48C3-8CB6-EA7DEFBF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9A55-A086-43C9-AB3C-81EF8FA0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E4BD-EE54-4A28-AED4-1CE0F767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33E5-D605-458A-8412-B0990E1A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2F94-13A5-494E-95E4-48B37F26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848C-5B27-4948-95CD-B423E4DA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864E-E59F-473B-812C-35D868F9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D05C-D08D-43BA-B844-5E290874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1221-1DE2-4ED5-9F99-85C2C6A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2485-D439-4393-926D-F352701F69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A4FB-CE2A-4760-AB54-4D9711FD47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шиностроительное черчение. 9 класс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чения и разрезы. Виды и обозначение сеч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63440" y="1928880"/>
            <a:ext cx="83473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для практическ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321"/>
          <p:cNvPicPr/>
          <p:nvPr/>
        </p:nvPicPr>
        <p:blipFill>
          <a:blip r:embed="rId1"/>
          <a:stretch/>
        </p:blipFill>
        <p:spPr>
          <a:xfrm rot="21445200">
            <a:off x="4363920" y="1773360"/>
            <a:ext cx="4780080" cy="475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23"/>
          <p:cNvPicPr/>
          <p:nvPr/>
        </p:nvPicPr>
        <p:blipFill>
          <a:blip r:embed="rId2"/>
          <a:stretch/>
        </p:blipFill>
        <p:spPr>
          <a:xfrm>
            <a:off x="179280" y="1557360"/>
            <a:ext cx="3988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ческие особенности в машиностроительных дета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539640" y="220500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"/>
          <p:cNvPicPr/>
          <p:nvPr/>
        </p:nvPicPr>
        <p:blipFill>
          <a:blip r:embed="rId2"/>
          <a:stretch/>
        </p:blipFill>
        <p:spPr>
          <a:xfrm>
            <a:off x="4067280" y="2133720"/>
            <a:ext cx="1447560" cy="192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6732720" y="2276640"/>
            <a:ext cx="1866600" cy="16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"/>
          <p:cNvPicPr/>
          <p:nvPr/>
        </p:nvPicPr>
        <p:blipFill>
          <a:blip r:embed="rId4"/>
          <a:stretch/>
        </p:blipFill>
        <p:spPr>
          <a:xfrm>
            <a:off x="539640" y="458136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7"/>
          <p:cNvPicPr/>
          <p:nvPr/>
        </p:nvPicPr>
        <p:blipFill>
          <a:blip r:embed="rId5"/>
          <a:stretch/>
        </p:blipFill>
        <p:spPr>
          <a:xfrm>
            <a:off x="3348000" y="4581360"/>
            <a:ext cx="1943280" cy="17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9"/>
          <p:cNvPicPr/>
          <p:nvPr/>
        </p:nvPicPr>
        <p:blipFill>
          <a:blip r:embed="rId6"/>
          <a:stretch/>
        </p:blipFill>
        <p:spPr>
          <a:xfrm>
            <a:off x="6084720" y="4797360"/>
            <a:ext cx="193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33333333333333333333333.JPG"/>
          <p:cNvPicPr/>
          <p:nvPr/>
        </p:nvPicPr>
        <p:blipFill>
          <a:blip r:embed="rId3"/>
          <a:stretch/>
        </p:blipFill>
        <p:spPr>
          <a:xfrm rot="120000">
            <a:off x="90000" y="845640"/>
            <a:ext cx="8891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олучения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812000" y="4221000"/>
            <a:ext cx="1076400" cy="125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56220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50828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28861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                    Налож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4788000" y="2205000"/>
            <a:ext cx="36716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422160" y="407664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ры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"/>
          <p:cNvPicPr/>
          <p:nvPr/>
        </p:nvPicPr>
        <p:blipFill>
          <a:blip r:embed="rId3"/>
          <a:stretch/>
        </p:blipFill>
        <p:spPr>
          <a:xfrm>
            <a:off x="1979640" y="4797360"/>
            <a:ext cx="4680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нес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выполненная на свободном поле чер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оженная на продолжении следа секу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3"/>
          <p:cNvPicPr/>
          <p:nvPr/>
        </p:nvPicPr>
        <p:blipFill>
          <a:blip r:embed="rId1"/>
          <a:stretch/>
        </p:blipFill>
        <p:spPr>
          <a:xfrm>
            <a:off x="755640" y="4149720"/>
            <a:ext cx="303840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"/>
          <p:cNvPicPr/>
          <p:nvPr/>
        </p:nvPicPr>
        <p:blipFill>
          <a:blip r:embed="rId2"/>
          <a:stretch/>
        </p:blipFill>
        <p:spPr>
          <a:xfrm>
            <a:off x="5003640" y="4076640"/>
            <a:ext cx="23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ж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агается непосредственно на виде (изображение фигуры сечения как бы накладывается на в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сечение: толщина обводки фигуры сечения – сплошная основ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иховка под углом 45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ное сечение:толщина обводки – сплошная тон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56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8:11:52Z</dcterms:created>
  <dc:creator>Гость</dc:creator>
  <dc:description/>
  <dc:language>en-US</dc:language>
  <cp:lastModifiedBy>Йа</cp:lastModifiedBy>
  <dcterms:modified xsi:type="dcterms:W3CDTF">2011-09-14T23:45:20Z</dcterms:modified>
  <cp:revision>7</cp:revision>
  <dc:subject/>
  <dc:title>Машиностроительное черчение</dc:title>
</cp:coreProperties>
</file>